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F08-81FC-4676-A363-F667CF16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DF9-0263-4182-B41D-90B95310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380-E9CD-45EC-8C9F-A1A8DB88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9C7-338F-4BA1-8BFA-D451739A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809F-7AB3-4ED5-975B-1666EB91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4522-2426-4B9B-88D4-D4B14C71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08A2-00FD-433C-BC93-08CC820A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3C96-2C42-4715-9168-0EAA34EC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E639-4FD7-4EFB-8D1D-AB368B28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978E-CE52-4C6A-92C6-D851D940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7AD6-0D32-4735-9CEB-7849D21C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DB3-CAE1-45E7-84F1-CDA11C7F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EBF6-74F5-4615-B443-2D0388C7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0E14-7657-4498-9A3C-756C92A4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E9C4-53D6-456D-922B-44C50998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68D0-1B41-49E8-A240-78CF9803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7C70-41D6-46F0-B3E1-A94EFF6B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73D-D640-49C2-BDAD-F8AD3AE4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675-1009-430D-906F-C8C11195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514-EDBB-4321-8165-E4717CCA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C78-3622-495A-AFD5-63F98539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346-64AE-444D-876C-11B0D950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28A-5897-404D-BC05-9A05B867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D7C-8F94-4463-B542-BCA1E70C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2E12-7321-46B7-BB5E-99D776397142}" type="slidenum"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15E0-5C0E-4962-95BA-6ACD5B5EDBF2}" type="slidenum"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sa</a:t>
            </a:r>
            <a:r>
              <a:rPr b="1" lang="sr-Latn-CS" sz="3600" spc="-1" strike="noStrike">
                <a:solidFill>
                  <a:srgbClr val="003366"/>
                </a:solidFill>
                <a:latin typeface="Arial"/>
              </a:rPr>
              <a:t>ža sportis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076720" y="5445000"/>
            <a:ext cx="338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Доц</a:t>
            </a:r>
            <a:r>
              <a:rPr b="0" lang="sr-Latn-CS" sz="2400" spc="-1" strike="noStrike">
                <a:solidFill>
                  <a:srgbClr val="006666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Др</a:t>
            </a:r>
            <a:r>
              <a:rPr b="0" lang="sr-Latn-C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Тања</a:t>
            </a:r>
            <a:r>
              <a:rPr b="0" lang="sr-Latn-C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Лукови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08560" y="808920"/>
            <a:ext cx="783108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ev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57160" y="2428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luži da pripremi sportistu z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ent,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a poveća mehaničku efikasnost tela sportis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neposredno pred aktuelno zbivanj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h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ili krać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ximal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10–20 m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ovršnije,  brže od pulsa,na specifične mišićne gru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Može početi na najaktivnijim mišićima, pa prelazi na manje aktiv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Ne koristi hvatove sa jačim pritiskom,nego než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stretching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važnih mišićnih grupa i fascija,da olakša pokretljivost i u zglob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interevent massa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dnosi se na takmi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j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e ili kad zbivanje traje nekoliko d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manjuje nepotrbnu tenziju i pomaže sportisti da se pripre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–15 min tra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Blaga,udobna i podsticajna za sportist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usirana na najvažnije mišićne grupe za svaki sport pojedinač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mbinacij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re  and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event massag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event massage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nimum 20 min cool-down routine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o završetk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nse longer sports ev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ratiti znake hipotermije ili hipertermij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ortista mora da se hidrira pre i u toku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event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ogotivu dugotrajnih ili dogadjaja na visokoj temperatu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Ne masiraju se duboko postavljena tk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graničena je na maximanih 15 m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242892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Blago i srednje istezanje je uključeno u masaž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Kontraindikacije za masažu sportis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brilna sta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utna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a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lje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tvorene rane i up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uboka masaža direktno na varikozne ve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lebothrombo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žne bole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ontraindikaci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uber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uloza ili dru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terijsk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fe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,Svezi,, koštani prelo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ture  m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išića,tetiva ili ligamenat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Trudnoća,naročito u prva tri mese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Malignit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vaki fizički ili fiziološki poremećaj koji se može pogoršati spor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2" descr="Lak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0" y="17524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skustva u primeni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GELADRINK® Fast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GELADRINK® Fort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2" descr="Lake"/>
          <p:cNvPicPr/>
          <p:nvPr/>
        </p:nvPicPr>
        <p:blipFill>
          <a:blip r:embed="rId2"/>
          <a:stretch/>
        </p:blipFill>
        <p:spPr>
          <a:xfrm>
            <a:off x="0" y="54000"/>
            <a:ext cx="9360000" cy="7020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16000" y="1989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</cp:lastModifiedBy>
  <dcterms:modified xsi:type="dcterms:W3CDTF">2014-10-30T12:15:55Z</dcterms:modified>
  <cp:revision>158</cp:revision>
  <dc:subject/>
  <dc:title>PowerPoint Presentation</dc:title>
</cp:coreProperties>
</file>